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16B-E95F-4194-AEFC-1C68460C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53C-1312-4453-9B3C-B4A12038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437-7670-4B3F-824C-2CAB29A2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7871-D9D8-499B-A582-E9C26B4F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DD5F-7025-402C-9077-BD94FA2C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2B2-3306-4A96-BD53-59BF7A97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50F-90D5-472E-907C-AE116560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267D-6A18-4104-894F-A26A824B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47F3-83BE-46DE-8959-463DD7B0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981-3E59-45C2-BF55-7E6FE737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396-763C-4F09-86D2-5C840DB8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9E06-1BA5-461F-A9D6-DFB0F777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6545-B0B4-410A-9820-5FF2ECD23D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26360" y="54756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ˎ̥"/>
              </a:rPr>
              <a:t>（三）非谓语动词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95760" y="1219320"/>
            <a:ext cx="9315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point _________further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arg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argue   C. arguing   D. being arg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Although the lecture had already been on for f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still was not able to find a chair_______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si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to sit o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it o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sitting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Surely her daughter would make an even bigger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 her?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leas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ing please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Lots of empty boots were found under the old man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d. He must have done nothing but _________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drink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drin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rinking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drun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2024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01520" y="242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29320" y="372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63440" y="494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300600" y="360360"/>
            <a:ext cx="9996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ocal health organization is reported ___ twenty-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ars ago when Dr. Adudon became its first president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be set u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being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C. to have been set u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having been set u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I heard him ________the door 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A. to lock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loc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loc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being lock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He does nothing but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complain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complain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omplai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compla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ank is reported in the local newspaper ______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ad daylight yesterday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be robb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obb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have been robb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having been rob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6800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5360" y="2057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9620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69640" y="4191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2120" y="130320"/>
            <a:ext cx="8876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I appreciated ______the opportunity to study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years ago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having been giv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having be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have been giv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have giv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_______of the burden of ice , the balloon climbed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drifted to the South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be fre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Free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free     D. Free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________exceptions, the rule may stand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Allow for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Allowing for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allow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allow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John painted her sitting in a chair with her hands ___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fold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have fold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fol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fold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6240" y="53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05640" y="2286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81240" y="3505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4040" y="47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5960" y="345960"/>
            <a:ext cx="8702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It’s easy to blame the decline of conversation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e of modern life and on the vague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糊的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place in our ever-changing world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tak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tak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ak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aken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worked so late in the office last night that I har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d time _______the last bus.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to have caugh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catch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atc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having cau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have got a loaf of bread; now I’m looking for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ife_______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cut it wi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cut with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ith it to c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it to cut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1574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40080" y="2376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1911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149400" y="452520"/>
            <a:ext cx="9492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I must make full use of the time _____left to me and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much as I can for the people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there be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ere 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ere a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here to b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On seeing the young child ________into the lake, Joh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rang to his feet, and went to the rescue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A. fe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f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fall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to f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I recommend you _______ what he says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d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do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C. to d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do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457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2209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6080" y="3505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5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2040" y="219240"/>
            <a:ext cx="8911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henomenon may explain to why people sp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and money on tr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y tall office buildings remind visitors of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o is an important commercial 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acabana has just celebrated its one hund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thday and is more beautiful than 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’s something for everyone here and fe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ors leave Rio feeling disappoin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estival , know as Carnival,is one of the wor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famous and attracts visitors from all over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304920"/>
            <a:ext cx="304920" cy="5331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81280" y="6764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685800"/>
            <a:ext cx="4572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1523880"/>
            <a:ext cx="53352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81480" y="1895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1981080"/>
            <a:ext cx="53352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3200400"/>
            <a:ext cx="1295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21360" y="319104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undre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952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38320" y="4410000"/>
            <a:ext cx="21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sappoi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579132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91840" y="616284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1120" y="376200"/>
            <a:ext cx="9004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zbuhel is also home to one of the most challeng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xciting downhillslopes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it is no need to worry if you have never skied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compare prices and offers,you can also make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l budget last lon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l agents can help you find out about pack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ps include hotel costs,tours and entrance tic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use traveller’s cheques if possible and avo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ng too much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838080"/>
            <a:ext cx="1676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19200" y="90504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halle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133720"/>
            <a:ext cx="381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43720" y="197172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971800"/>
            <a:ext cx="1218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33920" y="296244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p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82640" y="4510080"/>
            <a:ext cx="55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p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后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t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或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lude→inclu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94360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8640" y="562932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ri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304920"/>
            <a:ext cx="11336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5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429560" y="609480"/>
            <a:ext cx="2239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不时地，时不时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渴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让某人看一眼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因…而著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站在…的旁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厌烦，不喜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四天的节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坐落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去游泳、去洗澡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进行锻炼，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复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列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轻装旅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大饱眼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30800" y="53352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every now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50080" y="990720"/>
            <a:ext cx="47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get the itch for sth. / to do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6880" y="144792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give sb. a glimps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64120" y="18288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 known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68320" y="2286000"/>
            <a:ext cx="24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stand next to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3440" y="2666880"/>
            <a:ext cx="22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/get tire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85280" y="3124080"/>
            <a:ext cx="29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 four-day festi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76880" y="358128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 locate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48840" y="396252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ake a di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77800" y="441972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work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8640" y="487692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make photocopi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48280" y="525780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make a lis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33000" y="5715000"/>
            <a:ext cx="18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ravel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10400" y="608652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 feast for the e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04920" y="228600"/>
            <a:ext cx="1504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5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-303120" y="990720"/>
            <a:ext cx="9592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I still see her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o long                            B. now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every other times           D. some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ough old, he still has a(n) _________for adven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lief      B. arrangement    C. itch      D. in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I’m ________of the ________composition les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ired; bored               B. tiring ; b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iring ; boring           D. tired;   b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_________by the police, the kidnappers had no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 to surrender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杀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urrounded                 B. Having surrou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be surrounded        D. Surro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81440" y="905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2044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3880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9320" y="4410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0040" y="533520"/>
            <a:ext cx="851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rses are demanding higher________of p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oney     B. coat      C. payment       D.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I only catch a ________of the superstar; what a pi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tare         B. glimpse        C. glance      D. g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Is there any discount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折扣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I pay________ca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            B. with        C. by         D.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He left his wife to __________three young childr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 her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ring off           B. bring throu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ring up          D. bri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ere is no need __________the spilt mi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cry for                 B. crying over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cry it                    D. to cry 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4880" y="380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2200" y="1309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95120" y="222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24800" y="3062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72520" y="481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76320" y="371520"/>
            <a:ext cx="9283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week’s film festival should be a real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cinema-go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east     B. period        C. taste          D.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The manager discussed the plan that they w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 to see________the next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rry out                 B. carrie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arrying out           D. to carry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I guarantee that this is a ________source of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reliable       B. advisable        C. lovable      D. valu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I have no_________ but to report him to the pol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esire                      B. arrangement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lternative              D. parad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4924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24240" y="2048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8692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00920" y="4181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160" y="498600"/>
            <a:ext cx="889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He didn’t have time to read the report word for wor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just ________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ipped out               B. went over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looked up                  D. saw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He decided to put the __________glass on top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ll to stop boys__________ove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roken; climbing             B. breaking; 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roken; to climb              D. breaking; to cli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ound is __________with_________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vering; falling                  B. covered ; f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overed; fallen                    D. covering ; f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96000" y="828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6080" y="2666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3440" y="380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6000" y="620640"/>
            <a:ext cx="8062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---Look! We’re  had some fish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Oh, it’s not good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r eating                  B. to be ea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eating                        D. to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The boy pretended __________when his m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er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reading                    B. to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be reading           D. being rea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29720" y="990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29720" y="2286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2895480"/>
            <a:ext cx="73152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语法专项练习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48:46Z</dcterms:modified>
  <cp:revision>33</cp:revision>
  <dc:subject/>
  <dc:title>PowerPoint Presentation</dc:title>
</cp:coreProperties>
</file>